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D3C-09D8-41D5-9865-29D59029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C92-558E-4C11-ABC4-592992C9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8D75C-525D-4A09-AB42-455C9BC0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AA5A7-3B46-49B1-92DA-3913FE1A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AE806-394E-4E9F-9C71-274C1D44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DB2EC-E274-488C-B020-5534E6BA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E0EAF-10D5-4595-A571-030D3501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F6857-2CCD-48E0-B2D1-392B725F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7BD02-EE64-48DC-9C83-F57E1B6F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6FD9F-D969-4E5B-994E-B6A27595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E1170-5218-45AC-AB42-31AD3B35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2B1C1-583F-4A99-996D-79A931DB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7B0-324A-4D27-A4FB-10509DF9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C7598-FF44-480B-ACB2-5B775A7F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9B014-E573-4C37-8F71-7F954069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B2DA6-F398-42CF-8141-49458915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48FE9-8ADF-4B30-A781-3D829C1A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629C6-F46B-41CC-AE9B-0982244A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D57FD-D5E5-48D1-80D1-E100DFFE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381C2-1401-49B2-93F5-5944DEBD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54F98-06D8-4216-AC62-739C4BD8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6616A-D52B-4834-8F46-BC840AE7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D69F5-DFDA-4F82-AA1E-1A28EA1A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88F-B381-42EC-9E02-8150117F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92C34-A23C-4FB4-B3CD-B2C33440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FA95B-1CCF-4FE9-84FB-9708FA89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CE8B7-D8A8-40F6-BA49-2D0BF988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4A215-C1DA-4739-855E-0627398D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5A213-561D-4243-93E7-9FFF2C50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5E6F1-242C-4E88-A898-AF91355B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E7DF4-6F77-4E69-AFA7-704DD748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59C3C-FA56-4D8C-A3D3-0A90E977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31767-301F-444C-B8F6-EC2C29C6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E7427-6E4F-4907-B8A1-60EF777D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ACAB-DEA7-4896-B5EA-EA6D9FBD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4D89F-B991-4751-A1FF-4D5194C6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DF381-C4F7-4B8C-9E17-5B88126D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64AA1-B783-44DD-99C3-A9E3021E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5B18A-BDDD-46D9-BE9E-EF2B4F1A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ADB65-B4A1-4BEE-8F18-495B888D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A4005-262D-4621-B9B6-D389D4C5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D552F-C2BC-4E25-A485-41640BD7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14A92-E714-45A2-AAD4-EE5346FB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48114-828B-424C-BB39-1842CE61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D94E8-9959-457B-92DC-3C9F4242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691A-C88D-4011-AD1D-E95F1A48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0E5BD-2667-4D73-A5AD-0DAE7CF7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A302C-F700-4379-96CE-48DEECA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4354D-2F30-4443-A258-75909FB6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47527-3FE8-4F1F-97FC-BBC24000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65AE8-6E96-4FC4-B429-25CF2083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0989A-FFCC-4E6B-9372-A5A20882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7C425-81A0-494C-92A3-6B232FF6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9E778-F69C-4530-8A18-4865AFCD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11F64-C1FC-4A0B-A15F-5986A214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BE708-3510-430C-83E6-D7B7E780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C961-9488-4549-BE60-89DE5E1B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F9C50-29E4-49F6-B784-902A3783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BB452-B3A9-4303-97C4-AEA2D36C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2965A-90B7-423C-B0B4-84D4A6D5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27574-90CB-4B4D-AF1A-23805886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F90D8-6EF3-4505-ADB9-126E6C5D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78414-4AC9-4295-9989-8FD24BFB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9C7D3-81B1-4423-95F6-4586964E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3398B-1819-4DED-8EEF-567AFFC4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F36EEC-D7A5-4CD8-90F8-117D15CD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91046-8309-4E72-9877-FFE4D155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4E27-1903-4845-BA20-46035AAD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65901-1D62-4521-BD11-ED0BD266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DA531-617A-45D6-80DB-B5DE0B8E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64676-E773-48AC-B005-0177305A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231BF-B591-4ADB-AD2B-7B62F560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20885-C538-4C36-99A7-5A68482B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BCA2F-3000-44F1-BCA1-15C134BD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3E514-19E8-47D1-BCC8-F6919E2A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D3A4E-FF3E-4C19-9859-40E58C20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2D04B-9F00-436B-B10B-F25875C3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F5165-F01A-4065-962E-59DACD0E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159D-AB34-4C1B-BE5F-049F0E71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045309-B24D-48F3-8426-48329B12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DECF3-1AF1-47F1-B027-28E64973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23BB5-60EA-449B-8653-49605259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2B6E2-7D4F-4F09-985C-9A2C2518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BE0DA-2B25-47B8-AE02-D93008FF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DF09E-CDF3-4545-BD1B-D10298BC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B4B749-ACF6-4CC4-B764-714D49EC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564B8-8C84-4F5A-B685-94E20A7A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4F8A8-ECB8-43B7-90EA-ECF3BA54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35FA9-22B1-4338-B13D-36770536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413C-C6B1-4893-BE40-F839D6D5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02A09-2350-4B4F-96FA-45E2150C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3B1BE-0746-42CA-A03B-FD1BEEFB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7C9D71-9FC9-44ED-BF88-5D088D8A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90B64-1861-45F7-9DA4-495CB367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7355C-9C15-4816-A30D-3BDA9A59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D9CD5-B109-4D11-B180-304009CD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89099-F7B4-44C4-92E7-80DBDEBE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BA6AA-CA34-49A0-8760-5810D4AC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F1242-27F3-40FE-93D0-BA93AC0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03373-C5D7-4601-BA1C-20CC5035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28CA-41D4-43D7-8682-513DE1C2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6EB17-2A9D-49CD-A985-D40F3BE8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AA9361-BB3B-4B14-A9B1-14D227A1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BFCC2D-E17F-46CF-B1B0-E1C2A1E1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FBBFF-B213-481D-9E41-4DFA52BE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D421F-F3E6-4D8E-B47F-943EB57C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C6926-2487-4453-AD91-8005AB22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923F0E-1BFB-4C0F-9CC6-5C554758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E74CF8-1F08-42A1-86F6-F34C6411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6B55CF-B385-4D93-A1EF-F122E76B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EE84F-6E25-4747-85A4-EBBD7B25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5CD-FE31-4549-BACD-EE6A281C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AB6D-A249-46BE-B4EE-1B765633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327E6-3B9A-44D7-B0DC-D2582F51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9ABA3F-ED6D-4FBC-88D2-226C0235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B9ADD-434A-4319-A546-324A4D93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F04FAE-B67D-4C92-8EF1-6FB82D2B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61E21F-72BB-47C3-A99F-8DC8ED22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3AD22-C632-4E1C-B9DF-BFB8C3D1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424440-FA63-4650-BE60-C5AAAA95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C867C-3C12-4DCE-A9DB-28ABB190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95BAC8-49E5-4856-AD08-CF6BBE69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605B3-BDC2-4545-9816-B7C9C37C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153D-6835-4208-A574-FC77518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86259-6981-49A4-98B9-5DDF0FE9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ED07E-2AE1-4F36-9C12-4B03D07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9CFF0-620C-4C06-8F60-D6823B91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FACE35-ACF3-4A79-BCE7-800DA320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2F34AD-9B9B-47DA-96F6-B5E9BB5B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87988F-BFB2-468A-9E86-EF2D615A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6DC30C-7962-457D-B51D-BBC404ED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B1418-C222-4F57-B5EA-74A95DFC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6CEE85-7BD5-43EC-B549-2DAFA267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CE0D07-08DE-428C-B440-9AD507E8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065B-D119-43BA-A35F-7248B01D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9F5574-4ECB-4380-92BA-AE7A051F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041967-56A5-480F-817E-DE1A91E7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82A05B-351C-4B65-8D81-0C38B521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202053-212A-4AD1-8ED3-1C8DC8B3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EE7378-60C0-4BD9-B2A8-2BF241CA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128B4D-415C-4EA4-9E39-B3BC8A78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040E7C-D3C4-4798-ACBD-5A93D4BC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A753BA-1469-4285-AF80-E1CED299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C7B3A-AA3C-452F-BF1F-1B817D7A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28C23B-A401-4B6C-B365-876A1A42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86DE-7655-441C-80F3-8953122C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9B7F0-2F44-4AA6-9FDE-6455F15F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2E25F4-2948-461B-9AD3-3BEBAF10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D32250-6265-4E31-AF36-6B53F597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401427-975C-4801-B5B7-DE2750EB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D91EE-C6E0-4717-B436-FA876290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62A6E9-2C8F-4E43-9782-838D17D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0C65F9-72D1-4789-9554-91F5D7FA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6423F3-2C6F-4E3C-8533-9AE8AED3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7C0F0-C5F1-4DCB-A5F9-3D5F6722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5347B4-6EF1-429C-BDCA-16132A05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DBD3-EA87-4483-A726-9E076BCB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D56D0A-A96D-4A5E-96C1-0D11580E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1B69B-33F5-4222-BC25-2D0EE6F7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8164CE-8B39-40BA-889F-FD34903A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31FB07-1740-4787-878C-6B2E5049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27F53D-5DBA-4236-BF0A-DBBB5DBC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1520BF-A6F0-457D-8F67-A4259EC1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8B3271-0FD9-42B9-94A6-AA0B6755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927494-3A9A-42F6-8107-A38454B9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6FF98B-F0D5-4AF4-96EF-EACB6B43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BB7649-8794-477B-8B58-B98A24C7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D787-0F17-4D15-A9DA-E8B504C2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0E5227-2A47-45B7-8AE0-8C6EF975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17530-967D-452B-AF11-57F2F56F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E3CA66-85E1-4607-8B2A-C3D0DFCE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7B6A-20F7-4A48-AC56-3DB361D8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6277-653B-429D-B238-5B48950A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FE85-E988-46AB-B4AE-D69BB354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A252-E70D-44B9-82C6-81ACE400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4AB-0C33-4775-B79A-BEB12268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E746B-D490-43D2-8AAA-E7869434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6F3DB-966B-4DD6-8C79-2FFB485E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521A1-F53F-4D41-9B86-871264E8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77D01-7C46-415E-8F4C-B7EFCF29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4242D-412E-4183-8691-E2A459D4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5BB90-BAF3-4420-8D23-0DE465F5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70A0E-03AD-44D5-86A4-72AA018C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821C-352B-478C-9F2F-CCFE1343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B5466-68F7-4014-99B6-48B54560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FFAC7-4F29-49C3-916C-EAD71D1D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C8B-574E-4827-BB1D-69193B4C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4D87A-7F86-4F21-BEAD-BB6BA810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9F808-E479-4AA4-B70E-CAF053BC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FD75-786D-4657-BEDA-D24C0171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A37C-5E55-4DAD-85B6-DE17FFEA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0C9C4-BA8D-469C-B15C-118AC46B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CBAF-42A5-4DBE-B9EC-F8260578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F078A-C710-4268-BE1A-761F11B1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E9084-73B6-4798-B8A8-2F3989D1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44FE-C151-4A6D-B1CB-9713F457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0983C-B696-4CD5-972B-BA717A7D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B2D-79E9-4142-A425-C2F544EB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C2F6B-D61F-45E7-ABE3-E8E2590C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A758-A498-4F9E-ADFD-C93CE33C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251A5-E8C9-42CB-BEB2-BB0777E3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F45F0-C845-41A5-8605-CEEFC84A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7FA7A-CD22-4C94-9B9B-FCCE4EFC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20333-900B-4883-AD71-577598B4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91983-E8EB-4ECD-BACD-8B862FA3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04C01-D441-46ED-9AC6-ABE3553A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FBF92-1E8A-4EBB-84A3-F01ECADB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9F628-2816-42CE-8308-C3B907C0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10C-92A0-49AF-8364-E3A868C4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1A38-0897-4573-B4B8-7DB12973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511C1-3F4C-4405-9827-3824F60A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7B90-76EA-4262-A762-69338FCC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00D33-AEC6-4BF6-8C08-B29505DE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B51AB-7E20-4987-AD96-6257B84D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F8759-38BA-4928-9C95-ECAC35C2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D04F1-45FB-4B4D-845A-D2015B4F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F5B5F-F3A4-4949-9A61-2FBBEFB7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CDB38-2C04-4CB5-B855-ED3C41F8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43CE5-C910-44BA-A9B3-73C6D424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949-7C75-44DB-A9A7-F262C0B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7829E-B456-4F6F-AA6E-70C21296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93D0F-7BDF-457E-AFCA-5FC3948D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6393A-BDC9-465F-9D8E-31CF5DBF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8A72E-E852-43F8-ADB9-FAEA815D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A39AD-8712-47B5-9AB0-CC9A8F69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6357A-CF5A-4466-96DF-8B16BA25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57547-9B1B-446F-A5A9-DDF31A90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622A8-C563-4F28-BD5D-BD19857A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120A7-AFB7-4C20-B39D-BE409CF8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51D18-EF78-49D4-A41F-97D82B1F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EDE-1BD7-4321-8331-58EA0777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9687C-2DA2-4D5B-95FE-FEC9C960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FD842-471B-4B28-95D3-836B047E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10897-F4C6-4A61-9A74-9B1A0C8C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4D449-54FB-4891-A7DE-1DB593E6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48295-3766-4B20-9118-D44EC97F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E07C6-1E8A-4F21-952F-3F058968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9ADC6-4E22-42BF-9BA7-F9501C66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6F3AB-F8EE-4B5A-A543-8863875C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3CEC5-3108-4F93-ADB7-CF2727BE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3778A-D995-44C6-B960-3AA65B2D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224-D983-4D6A-B25C-A9048D25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F1645-F4E7-4587-8936-A6E1DA69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87EF2-BA99-4F5A-84C7-CD439D1C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A47CB-4F0A-4790-BB47-7F72A00E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FEE5A-293D-4260-B469-0AB3472E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FCF20-C908-4E69-8CE3-EEFA83A8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4C5D0-D617-4CDE-9985-77E81EB1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DC828-F408-4F93-8322-5585E3E6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9B4D3-59F4-4067-BBA3-AE728455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46934-F85F-413B-9E45-62DA38A4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C9DA7-6C60-45D3-AF7E-526F453A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FA5D-C250-46C7-8377-6156CFEBF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2FA1-726F-485E-967B-8058456AD6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0DF5-9054-4305-BA99-F98E54EB21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C50E-FD04-435D-A5B1-2C53C1F61D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550C-CE6C-423D-8BDC-D14AE3440D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A8DA-0E42-4FEC-A8EF-1DDF3AA564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C3B4-D5CD-497D-B86D-1AF70D4BF0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6C8A-26C0-447A-B150-1BA66E2D4C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3E1A-F2C6-40FB-A47F-B2925036DD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6E91-9CFC-404A-AF6F-9A7E0849E7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8DA0-4FF7-4042-93B6-307BE148AE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6C7B-4A65-4CD8-8F82-710B801968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FDAD-F7CA-4360-880F-EFB29824C8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17AE-10B4-4634-BE68-9E0AF6D4B2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C6F0-F776-41D1-9828-026783A660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23B3-36BC-4B00-A6AA-EEF7A74A4D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65EB-9278-4FF3-9E47-5F0600B4A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36CD-47EC-4109-A0D4-D935E27DD3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210F-90B4-48C6-AB2B-AC72AF1D81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2125-0FB5-4A77-80AD-CBC688D400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A64B-17F9-4AA5-AB2F-587500FD89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95C6-4536-4372-9562-90666C112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549A-661A-41A9-8537-560EA79D59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EB75-2F92-4C89-843C-EACDD102F9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0175-658E-491F-B391-C07D71C0F8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7063-C15E-499F-8AA2-F53DC7254C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5603-6493-415C-95B2-7565868F87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7BC4-4D5F-4167-AC66-127362F4F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E3EC-BE31-4868-BCFB-E4E952C4A0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6A0E-2AAE-4906-A71E-2C55DA8BE0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48D5-A23D-4FF3-BD31-0401762605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4AAF-B8B8-4E46-BE3A-A287EF682C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95AE-DEB0-485E-B2E3-5B914D857F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748C-8480-44F1-8D72-DA1EB3AFAC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29C5-BC71-4DAA-B1B9-3FA9C297B1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395A-0777-415B-8A55-A0900799A8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D346-A36D-4DAA-BA44-6267E48508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5024-F8D0-498F-A3C7-F8790E763C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7E0F-E605-46CA-B96C-C356B88179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3196-14A2-4793-AE96-0C14C8C442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428760" y="2971800"/>
            <a:ext cx="8286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442800" y="2390760"/>
            <a:ext cx="8256600" cy="20764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2"/>
          <a:stretch/>
        </p:blipFill>
        <p:spPr>
          <a:xfrm>
            <a:off x="3635280" y="2852640"/>
            <a:ext cx="23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1187280" y="3701880"/>
            <a:ext cx="1513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" descr=""/>
          <p:cNvPicPr/>
          <p:nvPr/>
        </p:nvPicPr>
        <p:blipFill>
          <a:blip r:embed="rId1"/>
          <a:stretch/>
        </p:blipFill>
        <p:spPr>
          <a:xfrm>
            <a:off x="57240" y="934920"/>
            <a:ext cx="9029520" cy="401004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2" descr=""/>
          <p:cNvPicPr/>
          <p:nvPr/>
        </p:nvPicPr>
        <p:blipFill>
          <a:blip r:embed="rId2"/>
          <a:stretch/>
        </p:blipFill>
        <p:spPr>
          <a:xfrm>
            <a:off x="942840" y="5207040"/>
            <a:ext cx="5791320" cy="13334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1187280" y="1989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1187280" y="2852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1187280" y="3716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1258920" y="5229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7"/>
          <a:stretch/>
        </p:blipFill>
        <p:spPr>
          <a:xfrm>
            <a:off x="1332000" y="6021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" descr=""/>
          <p:cNvPicPr/>
          <p:nvPr/>
        </p:nvPicPr>
        <p:blipFill>
          <a:blip r:embed="rId1"/>
          <a:stretch/>
        </p:blipFill>
        <p:spPr>
          <a:xfrm>
            <a:off x="1900080" y="1181160"/>
            <a:ext cx="5343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0" name="图片 1" descr=""/>
          <p:cNvPicPr/>
          <p:nvPr/>
        </p:nvPicPr>
        <p:blipFill>
          <a:blip r:embed="rId1"/>
          <a:stretch/>
        </p:blipFill>
        <p:spPr>
          <a:xfrm>
            <a:off x="404640" y="593640"/>
            <a:ext cx="8332920" cy="62089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2"/>
          <a:stretch/>
        </p:blipFill>
        <p:spPr>
          <a:xfrm>
            <a:off x="2268360" y="3443400"/>
            <a:ext cx="1295640" cy="4492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3"/>
          <a:stretch/>
        </p:blipFill>
        <p:spPr>
          <a:xfrm>
            <a:off x="2340000" y="5315040"/>
            <a:ext cx="1295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5" name="图片 1" descr=""/>
          <p:cNvPicPr/>
          <p:nvPr/>
        </p:nvPicPr>
        <p:blipFill>
          <a:blip r:embed="rId1"/>
          <a:stretch/>
        </p:blipFill>
        <p:spPr>
          <a:xfrm>
            <a:off x="709560" y="1149480"/>
            <a:ext cx="7723080" cy="52196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2"/>
          <a:stretch/>
        </p:blipFill>
        <p:spPr>
          <a:xfrm>
            <a:off x="1835280" y="1168560"/>
            <a:ext cx="1152360" cy="4492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3"/>
          <a:stretch/>
        </p:blipFill>
        <p:spPr>
          <a:xfrm>
            <a:off x="1835280" y="3025800"/>
            <a:ext cx="1512720" cy="4492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4"/>
          <a:stretch/>
        </p:blipFill>
        <p:spPr>
          <a:xfrm>
            <a:off x="1835280" y="4911840"/>
            <a:ext cx="1512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1" name="图片 1" descr=""/>
          <p:cNvPicPr/>
          <p:nvPr/>
        </p:nvPicPr>
        <p:blipFill>
          <a:blip r:embed="rId1"/>
          <a:stretch/>
        </p:blipFill>
        <p:spPr>
          <a:xfrm>
            <a:off x="42840" y="828720"/>
            <a:ext cx="9056880" cy="52005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8427960" cy="41436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390600" y="2295360"/>
            <a:ext cx="8362800" cy="22672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826920" y="28386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34920" y="822240"/>
            <a:ext cx="8763120" cy="2571840"/>
          </a:xfrm>
          <a:prstGeom prst="rect">
            <a:avLst/>
          </a:prstGeom>
          <a:ln w="0">
            <a:noFill/>
          </a:ln>
        </p:spPr>
      </p:pic>
      <p:pic>
        <p:nvPicPr>
          <p:cNvPr id="1116" name="图片 2" descr=""/>
          <p:cNvPicPr/>
          <p:nvPr/>
        </p:nvPicPr>
        <p:blipFill>
          <a:blip r:embed="rId2"/>
          <a:stretch/>
        </p:blipFill>
        <p:spPr>
          <a:xfrm>
            <a:off x="762120" y="3422520"/>
            <a:ext cx="8191440" cy="33339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1320840" y="2867040"/>
            <a:ext cx="5759280" cy="4492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826920" y="4351320"/>
            <a:ext cx="6481800" cy="4492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1187280" y="6194520"/>
            <a:ext cx="64818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461880" y="1747800"/>
            <a:ext cx="8218440" cy="33624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2"/>
          <a:stretch/>
        </p:blipFill>
        <p:spPr>
          <a:xfrm>
            <a:off x="1116000" y="2679840"/>
            <a:ext cx="7885080" cy="4492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3"/>
          <a:stretch/>
        </p:blipFill>
        <p:spPr>
          <a:xfrm>
            <a:off x="900000" y="4537080"/>
            <a:ext cx="788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2" descr=""/>
          <p:cNvPicPr/>
          <p:nvPr/>
        </p:nvPicPr>
        <p:blipFill>
          <a:blip r:embed="rId2"/>
          <a:stretch/>
        </p:blipFill>
        <p:spPr>
          <a:xfrm>
            <a:off x="61920" y="947880"/>
            <a:ext cx="9018720" cy="49622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411280" y="4522680"/>
            <a:ext cx="1152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7164360" y="4522680"/>
            <a:ext cx="115272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2484360" y="5388120"/>
            <a:ext cx="1152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76320" y="426960"/>
            <a:ext cx="899136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442800" y="1285920"/>
            <a:ext cx="8256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504720" y="692280"/>
            <a:ext cx="8134560" cy="60847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4"/>
          <a:stretch/>
        </p:blipFill>
        <p:spPr>
          <a:xfrm>
            <a:off x="900000" y="5445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5"/>
          <a:stretch/>
        </p:blipFill>
        <p:spPr>
          <a:xfrm>
            <a:off x="900000" y="6308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40" name="图片 1" descr=""/>
          <p:cNvPicPr/>
          <p:nvPr/>
        </p:nvPicPr>
        <p:blipFill>
          <a:blip r:embed="rId1"/>
          <a:stretch/>
        </p:blipFill>
        <p:spPr>
          <a:xfrm>
            <a:off x="461880" y="2700360"/>
            <a:ext cx="8218440" cy="14572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90440" y="790560"/>
            <a:ext cx="8763120" cy="346716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2" descr=""/>
          <p:cNvPicPr/>
          <p:nvPr/>
        </p:nvPicPr>
        <p:blipFill>
          <a:blip r:embed="rId2"/>
          <a:stretch/>
        </p:blipFill>
        <p:spPr>
          <a:xfrm>
            <a:off x="896760" y="4257720"/>
            <a:ext cx="7961400" cy="23335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2411280" y="2665440"/>
            <a:ext cx="136872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6602400" y="269388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2556000" y="351468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6818400" y="351468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2197080" y="5084640"/>
            <a:ext cx="187020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8"/>
          <a:stretch/>
        </p:blipFill>
        <p:spPr>
          <a:xfrm>
            <a:off x="6732720" y="5084640"/>
            <a:ext cx="187164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9"/>
          <a:stretch/>
        </p:blipFill>
        <p:spPr>
          <a:xfrm>
            <a:off x="2627280" y="5935680"/>
            <a:ext cx="187020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0"/>
          <a:stretch/>
        </p:blipFill>
        <p:spPr>
          <a:xfrm>
            <a:off x="6659640" y="5919840"/>
            <a:ext cx="18698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38240" y="1704960"/>
            <a:ext cx="8866080" cy="34480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385920" y="941400"/>
            <a:ext cx="8370720" cy="56102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755640" y="3573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1604880" y="1486080"/>
            <a:ext cx="5934240" cy="38862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76440" y="2262240"/>
            <a:ext cx="7791120" cy="23335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50472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61920" y="909720"/>
            <a:ext cx="9018720" cy="50385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2627280" y="2622600"/>
            <a:ext cx="86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3851280" y="4768920"/>
            <a:ext cx="2160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433440" y="1400040"/>
            <a:ext cx="8275680" cy="40579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2268360" y="1757520"/>
            <a:ext cx="129564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2195640" y="4335480"/>
            <a:ext cx="1295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5:34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